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81050"/>
        <c:axId val="11255342"/>
      </c:barChart>
      <c:catAx>
        <c:axId val="16881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55342"/>
        <c:crosses val="autoZero"/>
        <c:auto val="1"/>
        <c:lblAlgn val="ctr"/>
        <c:lblOffset val="100"/>
        <c:noMultiLvlLbl val="0"/>
      </c:catAx>
      <c:valAx>
        <c:axId val="11255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81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9165-3113-4CA9-A629-1E90B94D0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6090-2969-4193-9691-537B2BA8A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E95B-A315-43DD-BCAB-81D2DAEB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72B-E1B4-4746-A480-59B11EE0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EC5-956E-4FC0-80BA-18744268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2B6-C7CA-4638-8B2C-F5AA676C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34D-B4D6-4A92-9506-0DB781CB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7BAD-016E-4173-A42F-2C0656571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5B11-84A6-406B-ADBF-62AA31ED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8CC-A4C9-43C0-BB79-0B33EC91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B97F-67F2-4F80-8D7E-903945C9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AD0D-02BD-47D2-92BB-F7DA7FE4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8EAA0-2D44-49BD-8CA9-F05B1E0AE78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