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680981"/>
        <c:axId val="41358329"/>
      </c:barChart>
      <c:catAx>
        <c:axId val="736809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58329"/>
        <c:crosses val="autoZero"/>
        <c:auto val="1"/>
        <c:lblAlgn val="ctr"/>
        <c:lblOffset val="100"/>
        <c:noMultiLvlLbl val="0"/>
      </c:catAx>
      <c:valAx>
        <c:axId val="413583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6809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E454-7C6A-4716-B835-2D1C910A7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9D30-C732-4028-9844-23C2EFFB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1857-5110-4243-A01D-F2AAAE502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430A-B0AF-4814-B198-C4F02F930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1B21-0A25-441C-8EBD-5BF158EE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A54C-A1A8-4F04-9EE9-97FC2FF0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FA2A-5538-4214-9FE1-9F468059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B2C5-5C01-463A-9D44-806DBF9F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97B5-D89F-4CFD-881F-82CC200B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319E-67CB-4BA7-B0F5-1B4333CE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0745-0B0A-4419-8DCE-9C043A50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2076-00FB-444A-A732-5FE2258D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86B05-381B-48F6-8103-12FAAE6500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