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455210"/>
        <c:axId val="66704622"/>
      </c:barChart>
      <c:catAx>
        <c:axId val="824552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04622"/>
        <c:crosses val="autoZero"/>
        <c:auto val="1"/>
        <c:lblAlgn val="ctr"/>
        <c:lblOffset val="100"/>
        <c:noMultiLvlLbl val="0"/>
      </c:catAx>
      <c:valAx>
        <c:axId val="667046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552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10A6-EF60-4158-B67B-511C5E21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5334-4F4A-4811-8B76-476AC2EB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386B-8905-446F-8D4C-CD530219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13F3-0DF0-42FD-B11A-E2CB6453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E107-15C7-42A3-B9B9-F9594D3D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BF08-B32A-4D2F-9BBF-6FCEDA49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3B32-658E-48D2-9938-2C393EF9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CA1C-6401-46A3-A7ED-B3A50431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B9DF-7B9E-4D24-A132-57123DC7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EC0C-ADB9-44B5-B06A-95782BC2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F63A-1F81-41DE-99F7-6E08176F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286D-863D-4A72-9C0B-B8D26A62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FCF40-D1F2-43EC-A80B-9E12B69DE3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