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064532"/>
        <c:axId val="90213333"/>
      </c:barChart>
      <c:catAx>
        <c:axId val="70064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13333"/>
        <c:crosses val="autoZero"/>
        <c:auto val="1"/>
        <c:lblAlgn val="ctr"/>
        <c:lblOffset val="100"/>
        <c:noMultiLvlLbl val="0"/>
      </c:catAx>
      <c:valAx>
        <c:axId val="902133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64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8277-7C74-4F7D-9094-3913BCB2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119D-9E5F-4F54-86FD-49430C0A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A0E5-A65C-4D85-A89A-0B5A19DA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3ED6-D0B9-416F-A668-75E222D9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82D-DBF7-43BF-AE4C-0879F1F2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80DA-B568-430D-AE3E-D1B782A2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ADB3-9818-4759-95A3-7E0767F1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FF68-7B18-4B2D-B03D-58472F86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362E-9C4C-40CD-A9FF-3ECA1C0B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757-C150-4E34-9B02-45BAF783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B61B-1279-4EF9-89BC-8E89BAC5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C135-F78F-48BA-98F2-CFB9A99A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FFE19-DFEE-4BA7-9842-4C3DB6F479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