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720878"/>
        <c:axId val="20010188"/>
      </c:barChart>
      <c:catAx>
        <c:axId val="207208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10188"/>
        <c:crosses val="autoZero"/>
        <c:auto val="1"/>
        <c:lblAlgn val="ctr"/>
        <c:lblOffset val="100"/>
        <c:noMultiLvlLbl val="0"/>
      </c:catAx>
      <c:valAx>
        <c:axId val="200101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208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1783-62D0-4DAA-A49B-251C6E88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0DDB-ADF5-45E8-A827-48ACDBFF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46C7-3EBD-4E08-A693-45EB64CC9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600D-7D8D-4892-B9A6-20F04874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E4C8-9936-4EA0-8CEF-E5E6D829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EA75-1A2C-48A9-8E95-D4D25F89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4D00-92DB-484F-AEF8-EEFDA492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2A37-DB78-41A9-9657-D673C35E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4D61-6EA3-4A22-A96A-C9F499B7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D558-F925-4CEC-ACF5-3F3EE0B0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07D5-34C8-4417-B71D-1B9ABA8C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04DE-71A6-4A2E-B480-57E2121A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783A1-4C3D-4BE5-80F3-3BBF1CCD3C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