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4381"/>
        <c:axId val="74137614"/>
      </c:barChart>
      <c:catAx>
        <c:axId val="22244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37614"/>
        <c:crosses val="autoZero"/>
        <c:auto val="1"/>
        <c:lblAlgn val="ctr"/>
        <c:lblOffset val="100"/>
        <c:noMultiLvlLbl val="0"/>
      </c:catAx>
      <c:valAx>
        <c:axId val="74137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4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E54-ADCC-4115-9529-85E171C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569-5249-48AD-A327-8B5A76A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FB4-CC9A-46E5-AAB6-7F871EAD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59F-49A6-4BF5-B774-79EBC48E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2F2-7463-443C-91D9-CDB37B69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023-C8D4-42EF-AB14-0F3DAEA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8A7-A6CA-4EC1-980E-C2B57242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C17-A28F-4B6F-8E36-0E6E18F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79C-DECE-49EB-B579-958B4A7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DB6-5122-49CB-B29F-C83BD81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03D-9B9A-49D2-A189-7B2F0E8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731-9FBC-4997-9C91-982E4DF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6C93-2104-4ECA-9132-F45E6F3C5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