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80683"/>
        <c:axId val="47773802"/>
      </c:barChart>
      <c:catAx>
        <c:axId val="62280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3802"/>
        <c:crosses val="autoZero"/>
        <c:auto val="1"/>
        <c:lblAlgn val="ctr"/>
        <c:lblOffset val="100"/>
        <c:noMultiLvlLbl val="0"/>
      </c:catAx>
      <c:valAx>
        <c:axId val="47773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0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4D-792A-495F-BC14-D6754A14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A5D-188B-4494-9A49-3BA168E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0E8-387E-4FC0-9020-B7D795B9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056-F3C3-48CF-9D7F-BAB225C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0F1-7052-4FDB-A461-9BBDE7FE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905-212B-464A-89B3-0131056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058-6E28-4F3B-9C8B-35B6BEE2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C79-CD9F-4619-A543-466ADBE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A48-7E8E-4B0B-B4C5-51675FD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BBF-5620-42BF-8F67-537E24B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FCB-1851-47DA-8AE1-3554B9D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54D-DB90-4236-B2DB-EFE6A17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176E1-8B15-45CB-8E4E-3759666FC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