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783589"/>
        <c:axId val="49790257"/>
      </c:barChart>
      <c:catAx>
        <c:axId val="167835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90257"/>
        <c:crosses val="autoZero"/>
        <c:auto val="1"/>
        <c:lblAlgn val="ctr"/>
        <c:lblOffset val="100"/>
        <c:noMultiLvlLbl val="0"/>
      </c:catAx>
      <c:valAx>
        <c:axId val="497902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835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209D-CCE6-42ED-B891-57D82E4C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8D41-9170-40C1-89BF-CD7627E9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59D3-F83C-48D3-8063-3D3364347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74C2-967B-4E5D-8B7E-77292CE7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D7BE-9CCF-48BF-BB90-A87AE904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5F91-65BF-4160-B699-FA7889BB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F111-4B6B-49C0-ACF3-7A4BD950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50E9-C57F-49F8-9683-4F005B37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B6E8-167A-4C46-B3CF-53DEF01B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334F-8935-4D2A-81A9-29464B2E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646A-CF09-411A-B70E-D023B497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D547-97F3-4B9F-85F4-7B76D6EA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DD519-EEDE-4221-86FB-3FA6408722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