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474456"/>
        <c:axId val="63913460"/>
      </c:barChart>
      <c:catAx>
        <c:axId val="714744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13460"/>
        <c:crosses val="autoZero"/>
        <c:auto val="1"/>
        <c:lblAlgn val="ctr"/>
        <c:lblOffset val="100"/>
        <c:noMultiLvlLbl val="0"/>
      </c:catAx>
      <c:valAx>
        <c:axId val="639134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4744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9A5D-5685-429C-B1EA-55B693C9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3F61-A18D-4CC6-8CB4-E125922D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E171-FAF1-4594-8FBB-D0A0212A3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F832-DFFB-4F5C-B6BA-D2FE6E2D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887E-7027-474A-988C-08ACAD73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A36A-E7A1-44F1-A484-41C2D6DE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452D-49CE-42DE-B3EB-4B4DE537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3550-E815-486E-8459-9E4BC170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BA13-0A4F-45E4-B8A0-9E9D970F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6363-9EF0-4520-931B-548F3CB0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5938-C35D-4564-9E6D-B1906508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68F4-BB81-4002-A2FF-292D5D82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CF5B8-1FD5-42D9-8AD4-8C7216DD0A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