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66319"/>
        <c:axId val="77489580"/>
      </c:barChart>
      <c:catAx>
        <c:axId val="10766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89580"/>
        <c:crosses val="autoZero"/>
        <c:auto val="1"/>
        <c:lblAlgn val="ctr"/>
        <c:lblOffset val="100"/>
        <c:noMultiLvlLbl val="0"/>
      </c:catAx>
      <c:valAx>
        <c:axId val="77489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66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F90-2599-4D55-86B8-EEF2604F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0ED-B500-4FF1-8007-46425C5D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6FD-0345-4381-871C-794B89FC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F8A-2455-4FF3-A57F-6587769F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F09-9A46-40EE-B269-821DFE00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2AE-E7F6-4266-97A5-871632E0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59A-820F-4AB5-8B2D-E4F97ECD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9AC-C038-429A-90BD-30C3DD34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C0A-9180-4B5F-A8C6-C4026952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E8D-98D4-4A18-ADDF-CBCD9A7F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3CE-5C3E-4BC3-A6FD-156D5DA4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792-2DEF-4F7F-9509-57B2360A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85D00-EEE5-4BB6-B7B6-3E1A2D1269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