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17064"/>
        <c:axId val="39824384"/>
      </c:barChart>
      <c:catAx>
        <c:axId val="194170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24384"/>
        <c:crosses val="autoZero"/>
        <c:auto val="1"/>
        <c:lblAlgn val="ctr"/>
        <c:lblOffset val="100"/>
        <c:noMultiLvlLbl val="0"/>
      </c:catAx>
      <c:valAx>
        <c:axId val="398243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170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4BA-7E19-46E8-85DE-4538333B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395A-430A-4319-8190-76206DF9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5C3-38D1-47C3-9767-D21B7F81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7301-811C-42BA-A828-528CD011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B62D-9B48-415F-978D-8A10BA0E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DB07-115F-4147-B735-264DFE2A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AB3-130A-4686-94CA-B1512131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00B-528B-4CF4-8335-024193D7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40E7-C6A1-45C6-82B5-ECFDA530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E0D-4CE2-4A33-9168-7AA4B208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941-BDA7-4573-9430-6D9E894F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C971-0214-4104-A2AD-BDF09646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55BD7-BD63-4702-A701-2446C9A5A1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