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52655"/>
        <c:axId val="65644023"/>
      </c:barChart>
      <c:catAx>
        <c:axId val="55252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44023"/>
        <c:crosses val="autoZero"/>
        <c:auto val="1"/>
        <c:lblAlgn val="ctr"/>
        <c:lblOffset val="100"/>
        <c:noMultiLvlLbl val="0"/>
      </c:catAx>
      <c:valAx>
        <c:axId val="65644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52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BAB-5C7C-4E6E-B2CB-D1B8F151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E0D-7599-45FB-A93E-BB0FECDB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B21-E55D-442D-85D4-59F1DAE5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CFD-B346-4CD0-85AC-279C6B8D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3A0-7953-45A0-848D-33B74759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92F-2927-45BB-BFEB-50C5F2B7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A56-D04E-418B-AD0E-886A4E4F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C9C-F40A-49ED-B438-1B576BB6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39F-001C-44B8-8B03-A9A83853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1CF-3056-424B-9CF9-7EA95043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530-6CB5-4B06-8385-C89FF41E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6FD-EE14-422C-90C0-BD97AC98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C5571-8908-48F3-A097-E741FE86B3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