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48763"/>
        <c:axId val="57496060"/>
      </c:barChart>
      <c:catAx>
        <c:axId val="22148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96060"/>
        <c:crosses val="autoZero"/>
        <c:auto val="1"/>
        <c:lblAlgn val="ctr"/>
        <c:lblOffset val="100"/>
        <c:noMultiLvlLbl val="0"/>
      </c:catAx>
      <c:valAx>
        <c:axId val="57496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48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9CB-A3ED-40FC-997D-7ECF1839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56C-C1FE-416B-8248-B706D015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C43-4FB5-44D4-8E0F-AEF97FD5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F85-9101-4432-9DB2-DFC09C67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C45-1B4A-4950-B5D6-FB37ABA4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546-9BBB-45A5-8BBB-A10B71D2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7E0-076B-486A-B35E-5F8CD361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8F6-33C5-4D24-B384-E3F2A418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71D-D314-4E2F-B466-44E0F334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FD3-3796-463B-A221-C7CC87E7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123-7E9C-45D8-AA3A-F1CF85C8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5A8-63DE-4F21-BE66-BE9C214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FC6AC-D820-4F00-9BBA-7F00D97983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