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69155"/>
        <c:axId val="1936153"/>
      </c:barChart>
      <c:catAx>
        <c:axId val="80691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36153"/>
        <c:crosses val="autoZero"/>
        <c:auto val="1"/>
        <c:lblAlgn val="ctr"/>
        <c:lblOffset val="100"/>
        <c:noMultiLvlLbl val="0"/>
      </c:catAx>
      <c:valAx>
        <c:axId val="19361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691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29AB-868A-495D-ACB5-FA83F5C4A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B1CE-034B-493C-838D-9E87B4FDA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E484-7AB3-4CAA-AD03-86C3C41F2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0275-7CFD-451A-BCBC-99C51ABC8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AD80-23A5-496F-AED5-A83A05EB1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7711-6FD9-47EE-92D6-77A378DBD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8CCB-E8C6-4549-80EC-EC418B27F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B06B-653D-4F6E-8CA3-0DA9B113F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099C-AB70-429D-AD13-A1A9EC057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B6B0-D873-43DE-9B4A-F30AEABF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BEDA-0748-4B6C-896A-0E4E7B3A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CC32-8B4D-4C3D-91D0-9B456DCA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27F206-E7EB-4CD1-9516-647CDAF3D6A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