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88502"/>
        <c:axId val="11670573"/>
      </c:barChart>
      <c:catAx>
        <c:axId val="59688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0573"/>
        <c:crosses val="autoZero"/>
        <c:auto val="1"/>
        <c:lblAlgn val="ctr"/>
        <c:lblOffset val="100"/>
        <c:noMultiLvlLbl val="0"/>
      </c:catAx>
      <c:valAx>
        <c:axId val="11670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88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F61-94D9-41F9-89FA-73B7C600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F06-0D11-4210-8B77-277DF678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FB5-2737-4161-8CA4-4035945B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FC9-74E0-4DE8-A384-4A837769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75A-9897-46CB-B109-77947BA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F43-812B-4AE5-8F6E-B08699EB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56D-451A-40BC-9874-B1C9FEFE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400-0A74-4921-93C5-A1A44DA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454-47CD-4D68-B0F3-A26E63EC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2B4-1EAC-467A-B948-36E9ABD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43A-C8F3-4691-BF6B-AFC7C35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991-2F5A-47D5-8E1A-324B58B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0AE3B-A87D-465B-8E38-7812D5A8A1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