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84337"/>
        <c:axId val="2286045"/>
      </c:barChart>
      <c:catAx>
        <c:axId val="781843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6045"/>
        <c:crosses val="autoZero"/>
        <c:auto val="1"/>
        <c:lblAlgn val="ctr"/>
        <c:lblOffset val="100"/>
        <c:noMultiLvlLbl val="0"/>
      </c:catAx>
      <c:valAx>
        <c:axId val="2286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843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AE7C-4C7C-4AB4-8E28-5E61FE474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D71C-F5C8-4307-8E03-FD683F503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635C-EC70-4BD8-9D77-F8DAACEE7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DF6-48ED-4F4E-B36D-73148E95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F3BD-F702-4E62-BB2D-4BF03F76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D323-5565-4C4F-9ABE-A084243C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CECA-9E35-4E5E-833C-904A9751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9398-29C7-4341-90C8-E71A8377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B22-79C0-4865-A4D8-4229F9AD7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F531-404A-4098-B55B-7AEC0456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2F23-4921-4562-9150-C2FA60F1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3BC-ADFB-419E-84BD-D930EF83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E2396E-E2F8-4C1D-8A8F-7B13291D40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