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72746"/>
        <c:axId val="99402553"/>
      </c:barChart>
      <c:catAx>
        <c:axId val="83972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02553"/>
        <c:crosses val="autoZero"/>
        <c:auto val="1"/>
        <c:lblAlgn val="ctr"/>
        <c:lblOffset val="100"/>
        <c:noMultiLvlLbl val="0"/>
      </c:catAx>
      <c:valAx>
        <c:axId val="99402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72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D92-729C-4F33-BEEF-964A7CB1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0772-F796-404D-B339-D98FF6F5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EA2C-ABAE-4E59-ACC0-0C7235D0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4ED-6EF7-4736-8DF7-DCE7958E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20A-0986-4200-826F-929B9C4C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655-3AE2-4034-AC7D-B2104A9D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705-746A-4CE7-9859-B02D8F7B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D4AE-776E-4889-A0F9-7006DC4F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16C-821D-4427-9158-B1DD8C9C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6DB-7AE6-4E5A-8877-709518E5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EE4-4083-4ECF-9C90-DA56EBF3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791-AA6E-497D-918E-04B16AC1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DC8CC-6FC2-41A4-910F-5D4AC39885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