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06222"/>
        <c:axId val="60705693"/>
      </c:barChart>
      <c:catAx>
        <c:axId val="82306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05693"/>
        <c:crosses val="autoZero"/>
        <c:auto val="1"/>
        <c:lblAlgn val="ctr"/>
        <c:lblOffset val="100"/>
        <c:noMultiLvlLbl val="0"/>
      </c:catAx>
      <c:valAx>
        <c:axId val="60705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06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175-6469-463E-80A6-83AF2D6F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B4B-FF0D-4670-8C8D-78F4610C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E3C-D0D8-4F96-B179-61193215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626-C4ED-484E-9149-FB9583D5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8DB-9E1A-4DEC-972B-0E9066BD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B69-F91B-457D-9E30-7599CAD3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6B8-F109-4C53-B6E1-4C3F6CA8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025-826B-4D73-B751-6785EF67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CA1-95C6-4A07-AD2C-4A5CA5F8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3A4-A35D-4147-B7C2-4D3E637E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3F1-6831-4C40-B354-02E54A9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BDE-5CE1-4D05-90A2-7B3F245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2057D-CA11-441C-B30B-5B068245CA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